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DE5-EF44-4AB6-B645-838B11FA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055-E590-4F5D-8402-87847F19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F1F-31D4-4FEC-80AD-F85AD354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817-650A-48F4-85AA-F4374C74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42A-DAC3-46F2-A5F1-C9F3EECE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D50-C949-42FD-A7FE-3028C6A5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FA8-7BD0-4F44-951E-D406AA3C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9D4-287F-4C99-B5F1-BC6EE764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5B0-BA9A-4690-86AA-F9435889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9AE-F8B9-4A1C-B16C-1E2F5BE8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683-F5DD-4476-B43A-7B6239F1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973-B94D-469E-9350-CC39515C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EA7C-860C-4F12-A970-6D11E89164B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www.bing.com/videos/search?q=alimentos+de+castilla+la+mancha&amp;qs=n&amp;form=QBVR&amp;pq=alimentos+de+castilla+la+mancha&amp;sc=0-22&amp;sp=-1&amp;sk=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ASTILLA LA MANCHA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UESTRA COMUNIU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Imagen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4596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8000" y="18900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astilla la Mancha está situada en el centro de Españ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d0d0d"/>
                </a:solidFill>
                <a:latin typeface="Calibri"/>
              </a:rPr>
              <a:t>Al norte limita con Castilla y León y Madrid, al oeste con Extremadura, al este con Aragón y Valencia y al sur con Murcia y Andalucí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u nombre se lo debe a la gran llanura interior llamada LA MANCHA, que ocupa parte de 4 de sus 5 provincias: Cuenca, Toledo, Albacete y Ciudad Rea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l norte ya fuera de La Mancha queda ubicada la provincia de Guadalajar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Tenemos grandes ríos: como el Tajo, el Guadiana y el Júc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3 Imagen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353440" cy="4192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8000" y="27000"/>
            <a:ext cx="86868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omos la tercera autonomía más grande de España, con una superficie 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79.409 km²,  13 % de todo el territorio de Españ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 nos contamos somos 2.078.000 habitan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empre se nos ha conocido como Castilla la Nueva, pero desde 1978 y con la llegada de la Constitución y al igual que otras regiones de España nos constituimos en Comunidad Autónoma contando con nuestro propio Estatuto de Autonomía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16 de agosto de 1982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que nos facilita tener un gobierno propio y unas Cortes o Parlamento prop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Imagen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95808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3336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 por algo es conocida nuestra Comunidad es por sus vinos. Somos el primer viñedo del mun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Imagen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3024000" cy="306864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3924360" y="1052640"/>
            <a:ext cx="43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o no podemos olvidarnos de entre otros productos de nuestra gastronomía como el aceite, el azafrán, el jamón, el queso manchego y la miel de la Alcarria (Guadalajar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os platos típicos son el pisto manchego, los duelos y quebrantos (con huevo, tocino y chorizo) y las gach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5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4508640"/>
            <a:ext cx="182880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6 Imagen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8680" cy="223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símbolos de la Reg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4 Imagen" descr=""/>
          <p:cNvPicPr/>
          <p:nvPr/>
        </p:nvPicPr>
        <p:blipFill>
          <a:blip r:embed="rId1"/>
          <a:stretch/>
        </p:blipFill>
        <p:spPr>
          <a:xfrm>
            <a:off x="324000" y="863640"/>
            <a:ext cx="4589280" cy="2997000"/>
          </a:xfrm>
          <a:prstGeom prst="rect">
            <a:avLst/>
          </a:prstGeom>
          <a:ln w="0">
            <a:noFill/>
          </a:ln>
        </p:spPr>
      </p:pic>
      <p:pic>
        <p:nvPicPr>
          <p:cNvPr id="54" name="5 Imagen" descr=""/>
          <p:cNvPicPr/>
          <p:nvPr/>
        </p:nvPicPr>
        <p:blipFill>
          <a:blip r:embed="rId2"/>
          <a:stretch/>
        </p:blipFill>
        <p:spPr>
          <a:xfrm>
            <a:off x="5076720" y="720720"/>
            <a:ext cx="3757680" cy="2637000"/>
          </a:xfrm>
          <a:prstGeom prst="rect">
            <a:avLst/>
          </a:prstGeom>
          <a:ln w="0">
            <a:noFill/>
          </a:ln>
        </p:spPr>
      </p:pic>
      <p:sp>
        <p:nvSpPr>
          <p:cNvPr id="55" name="6 CuadroTexto"/>
          <p:cNvSpPr/>
          <p:nvPr/>
        </p:nvSpPr>
        <p:spPr>
          <a:xfrm>
            <a:off x="5121360" y="3564000"/>
            <a:ext cx="32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bandera de la región se compone de un rectángulo dividido verticalmente en dos cuadrados iguales: el primero, junto al mástil, de color rojo carmesí con un castillo y el segundo, blan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7 CuadroTexto"/>
          <p:cNvSpPr/>
          <p:nvPr/>
        </p:nvSpPr>
        <p:spPr>
          <a:xfrm>
            <a:off x="611280" y="4221000"/>
            <a:ext cx="41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escudo de la Junta de Comunidades de Castilla-La Mancha es partido. En la parte superior tiene una corona y la parte inferior está dividida en dos franjas como la bandera, una roja con un un castillo y una blanca sin dibuj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Instituciones de Castilla la Manc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Imagen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663640" cy="4896000"/>
          </a:xfrm>
          <a:prstGeom prst="rect">
            <a:avLst/>
          </a:prstGeom>
          <a:ln w="0">
            <a:noFill/>
          </a:ln>
        </p:spPr>
      </p:pic>
      <p:sp>
        <p:nvSpPr>
          <p:cNvPr id="59" name="4 CuadroTexto"/>
          <p:cNvSpPr/>
          <p:nvPr/>
        </p:nvSpPr>
        <p:spPr>
          <a:xfrm>
            <a:off x="4067280" y="1341360"/>
            <a:ext cx="4825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o todas las Comunidades Autónomas, Castilla la Mancha tiene un parlamento propio llamado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rtes de Castilla la Manch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ubicado en un antiguo convento de Toledo llamado de San G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 elegido por los ciudadanos en las elecciones autonómic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uncio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Elaborar ley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Elegir Presidente Comunidad. (persona que preside la Comunid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+ Controlar la acción del Consejo de Gobierno: formado por el Presidente y los consejeros nombrados por él.  Cada consejero se ocupa de un asunto concreto de la Comunidad: Agricultura, turismo, transporte, educación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omunidades Autónomas de Españ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Imagen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48720" cy="4391280"/>
          </a:xfrm>
          <a:prstGeom prst="rect">
            <a:avLst/>
          </a:prstGeom>
          <a:ln w="0">
            <a:noFill/>
          </a:ln>
        </p:spPr>
      </p:pic>
      <p:pic>
        <p:nvPicPr>
          <p:cNvPr id="62" name="4 Imagen" descr=""/>
          <p:cNvPicPr/>
          <p:nvPr/>
        </p:nvPicPr>
        <p:blipFill>
          <a:blip r:embed="rId2"/>
          <a:stretch/>
        </p:blipFill>
        <p:spPr>
          <a:xfrm>
            <a:off x="4859280" y="5921280"/>
            <a:ext cx="1189080" cy="890640"/>
          </a:xfrm>
          <a:prstGeom prst="rect">
            <a:avLst/>
          </a:prstGeom>
          <a:ln w="0">
            <a:noFill/>
          </a:ln>
        </p:spPr>
      </p:pic>
      <p:sp>
        <p:nvSpPr>
          <p:cNvPr id="63" name="5 CuadroTexto"/>
          <p:cNvSpPr/>
          <p:nvPr/>
        </p:nvSpPr>
        <p:spPr>
          <a:xfrm>
            <a:off x="3690360" y="618336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ueg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vincias de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Imagen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064360" cy="4248360"/>
          </a:xfrm>
          <a:prstGeom prst="rect">
            <a:avLst/>
          </a:prstGeom>
          <a:ln w="0">
            <a:noFill/>
          </a:ln>
        </p:spPr>
      </p:pic>
      <p:pic>
        <p:nvPicPr>
          <p:cNvPr id="66" name="4 Imagen" descr=""/>
          <p:cNvPicPr/>
          <p:nvPr/>
        </p:nvPicPr>
        <p:blipFill>
          <a:blip r:embed="rId2"/>
          <a:stretch/>
        </p:blipFill>
        <p:spPr>
          <a:xfrm>
            <a:off x="6529320" y="5886360"/>
            <a:ext cx="84780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5 CuadroTexto"/>
          <p:cNvSpPr/>
          <p:nvPr/>
        </p:nvSpPr>
        <p:spPr>
          <a:xfrm>
            <a:off x="5224680" y="6000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uego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4 Imagen" descr=""/>
          <p:cNvPicPr/>
          <p:nvPr/>
        </p:nvPicPr>
        <p:blipFill>
          <a:blip r:embed="rId3"/>
          <a:stretch/>
        </p:blipFill>
        <p:spPr>
          <a:xfrm>
            <a:off x="2627280" y="5877000"/>
            <a:ext cx="847800" cy="757080"/>
          </a:xfrm>
          <a:prstGeom prst="rect">
            <a:avLst/>
          </a:prstGeom>
          <a:ln w="0">
            <a:noFill/>
          </a:ln>
        </p:spPr>
      </p:pic>
      <p:sp>
        <p:nvSpPr>
          <p:cNvPr id="69" name="5 CuadroTexto"/>
          <p:cNvSpPr/>
          <p:nvPr/>
        </p:nvSpPr>
        <p:spPr>
          <a:xfrm>
            <a:off x="1553040" y="6093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uego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20:40:19Z</dcterms:created>
  <dc:creator> </dc:creator>
  <dc:description/>
  <dc:language>en-US</dc:language>
  <cp:lastModifiedBy> </cp:lastModifiedBy>
  <dcterms:modified xsi:type="dcterms:W3CDTF">2015-04-15T16:57:25Z</dcterms:modified>
  <cp:revision>6</cp:revision>
  <dc:subject/>
  <dc:title>CASTILLA LA MANCHA NUESTRA COMUNIUDAD</dc:title>
</cp:coreProperties>
</file>